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3.wmf" ContentType="image/x-wmf"/>
  <Override PartName="/ppt/media/image9.png" ContentType="image/png"/>
  <Override PartName="/ppt/media/image17.png" ContentType="image/png"/>
  <Override PartName="/ppt/media/image16.png" ContentType="image/png"/>
  <Override PartName="/ppt/media/image15.png" ContentType="image/png"/>
  <Override PartName="/ppt/media/image1.jpeg" ContentType="image/jpeg"/>
  <Override PartName="/ppt/media/image4.wmf" ContentType="image/x-wmf"/>
  <Override PartName="/ppt/media/image3.png" ContentType="image/png"/>
  <Override PartName="/ppt/media/image5.wmf" ContentType="image/x-wmf"/>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28134-C948-4D9E-AAB5-6E5D37A8F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1BDC1-085D-449E-A9A6-3BF8360C6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18F20-F942-44B1-8BA1-F836D3F5C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58FD8-4637-4B1B-9AD0-93D43E7C0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629F53-1FD6-469F-BE52-0C456840A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5B2AD-6066-4177-863B-E0EF64AC3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45BDD-4C1B-40F1-9449-8CC7DA61A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AC6AC-3884-4FA7-BE42-3A148D973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36629-3785-41F0-8240-05457702A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D5059-C0D5-4FF9-9D9F-CDA52EFBA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0BDF7-EBC4-4C19-B728-A9B02FDB9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FFE8C-B65F-4619-B80E-D11820B3B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95CF0-F091-44C7-B91A-58E0DDD3E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FDCEB-F8E0-42D5-9510-D442BA05C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A6FCF-9605-43A3-B7CE-F520D5EC4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551DEE-84D8-4329-88EA-1BCD252D7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FDE3A-7882-4C7B-BFF0-F61F61DAC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1DBF8-A4D4-4ABF-8B60-657964644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A385E-2E25-48F8-83DF-AB4EBA279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8FA8D-AACF-44D1-B80C-E9D792A6C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7B4E4-6398-4239-985B-4772F3EF5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6266B-2155-45AF-A4B0-18A881105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8F78C-7475-4BED-80BD-7A6CDBD24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02DCD-2B24-470D-9708-D240AA599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5A6E-A31F-4869-BEBE-8D4C6198B01E}" type="slidenum">
              <a:rPr b="0" lang="en-US" sz="1200" spc="-1" strike="noStrike">
                <a:solidFill>
                  <a:srgbClr val="bcbcb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1590-9A23-49B1-AA10-9904D7148874}" type="slidenum">
              <a:rPr b="0" lang="en-US" sz="1200" spc="-1" strike="noStrike">
                <a:solidFill>
                  <a:srgbClr val="bcbcb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20840" y="1371600"/>
            <a:ext cx="8229600" cy="240840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y: Steven Pajewski</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7200" y="274680"/>
            <a:ext cx="8229600" cy="134136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bls.gov/oco/ocos091.ht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bls.gov/oco/ocos109.ht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federalgovernmentjobs.us/jobs/Aircraft-Engine-Mechanic-2031217.htm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garmin.com/garmin/cms/us/careers/job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57200" y="274680"/>
            <a:ext cx="8229600" cy="134136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vie industr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ave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verview</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6" name="Picture 4" descr="C:\Documents and Settings\jbartolo\Local Settings\Temporary Internet Files\Content.IE5\MNMR9XWV\MC900291912[1].wmf"/>
          <p:cNvPicPr/>
          <p:nvPr/>
        </p:nvPicPr>
        <p:blipFill>
          <a:blip r:embed="rId2"/>
          <a:stretch/>
        </p:blipFill>
        <p:spPr>
          <a:xfrm>
            <a:off x="4724280" y="1447920"/>
            <a:ext cx="2006640" cy="1315800"/>
          </a:xfrm>
          <a:prstGeom prst="rect">
            <a:avLst/>
          </a:prstGeom>
          <a:ln w="0">
            <a:noFill/>
          </a:ln>
        </p:spPr>
      </p:pic>
      <p:pic>
        <p:nvPicPr>
          <p:cNvPr id="87" name="Picture 5" descr="C:\Documents and Settings\jbartolo\Local Settings\Temporary Internet Files\Content.IE5\MNMR9XWV\MC900055420[1].wmf"/>
          <p:cNvPicPr/>
          <p:nvPr/>
        </p:nvPicPr>
        <p:blipFill>
          <a:blip r:embed="rId3"/>
          <a:stretch/>
        </p:blipFill>
        <p:spPr>
          <a:xfrm>
            <a:off x="4546440" y="3352680"/>
            <a:ext cx="2928960" cy="231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57200" y="274680"/>
            <a:ext cx="8229600" cy="1341360"/>
          </a:xfrm>
          <a:prstGeom prst="rect">
            <a:avLst/>
          </a:prstGeom>
          <a:ln w="0">
            <a:noFill/>
          </a:ln>
        </p:spPr>
      </p:pic>
      <p:sp>
        <p:nvSpPr>
          <p:cNvPr id="8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udio equipment technicia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lm/Video editors</a:t>
            </a:r>
            <a:endParaRPr b="0" lang="en-US" sz="2800" spc="-1" strike="noStrike">
              <a:solidFill>
                <a:srgbClr val="ffffff"/>
              </a:solidFill>
              <a:latin typeface="Book Antiqua"/>
            </a:endParaRPr>
          </a:p>
        </p:txBody>
      </p:sp>
      <p:pic>
        <p:nvPicPr>
          <p:cNvPr id="90" name="Picture 5" descr="C:\Documents and Settings\jbartolo\Local Settings\Temporary Internet Files\Content.IE5\U85YI6RM\MC900149744[1].wmf"/>
          <p:cNvPicPr/>
          <p:nvPr/>
        </p:nvPicPr>
        <p:blipFill>
          <a:blip r:embed="rId2"/>
          <a:stretch/>
        </p:blipFill>
        <p:spPr>
          <a:xfrm>
            <a:off x="6889680" y="1066680"/>
            <a:ext cx="1392480" cy="2044800"/>
          </a:xfrm>
          <a:prstGeom prst="rect">
            <a:avLst/>
          </a:prstGeom>
          <a:ln w="0">
            <a:noFill/>
          </a:ln>
        </p:spPr>
      </p:pic>
      <p:pic>
        <p:nvPicPr>
          <p:cNvPr id="91" name="Picture 7" descr="C:\Documents and Settings\jbartolo\Local Settings\Temporary Internet Files\Content.IE5\MNMR9XWV\MC900250128[1].wmf"/>
          <p:cNvPicPr/>
          <p:nvPr/>
        </p:nvPicPr>
        <p:blipFill>
          <a:blip r:embed="rId3"/>
          <a:stretch/>
        </p:blipFill>
        <p:spPr>
          <a:xfrm>
            <a:off x="4038480" y="2971800"/>
            <a:ext cx="2775240" cy="17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378000" y="274680"/>
            <a:ext cx="8480160" cy="134136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udio and video equipment technicians should complete a technical-training program related to the fiel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enerally indoor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40 hour work week</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xpect work on holiday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verage income : $39,410</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4" name="Picture 6" descr="C:\Documents and Settings\jbartolo\Local Settings\Temporary Internet Files\Content.IE5\U85YI6RM\MC900197813[1].wmf"/>
          <p:cNvPicPr/>
          <p:nvPr/>
        </p:nvPicPr>
        <p:blipFill>
          <a:blip r:embed="rId2"/>
          <a:stretch/>
        </p:blipFill>
        <p:spPr>
          <a:xfrm>
            <a:off x="6019920" y="2975040"/>
            <a:ext cx="220968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57200" y="274680"/>
            <a:ext cx="8229600" cy="134136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ducation: Community/Junior College some Votech work.</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ose employed by television and cable networks or advertising agencies may work long hours to meet production schedules. ENG operators often work long, irregular hours and must be available to work on short notic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edian annual wages were $40,910 in the motion picture and video industries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itle 1" descr=""/>
          <p:cNvPicPr/>
          <p:nvPr/>
        </p:nvPicPr>
        <p:blipFill>
          <a:blip r:embed="rId1"/>
          <a:stretch/>
        </p:blipFill>
        <p:spPr>
          <a:xfrm>
            <a:off x="457200" y="274680"/>
            <a:ext cx="8229600" cy="1341360"/>
          </a:xfrm>
          <a:prstGeom prst="rect">
            <a:avLst/>
          </a:prstGeom>
          <a:ln w="0">
            <a:noFill/>
          </a:ln>
        </p:spPr>
      </p:pic>
      <p:sp>
        <p:nvSpPr>
          <p:cNvPr id="9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ngine mechanic</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viation Technical Writer</a:t>
            </a:r>
            <a:endParaRPr b="0" lang="en-US" sz="2800" spc="-1" strike="noStrike">
              <a:solidFill>
                <a:srgbClr val="ffffff"/>
              </a:solidFill>
              <a:latin typeface="Book Antiqua"/>
            </a:endParaRPr>
          </a:p>
        </p:txBody>
      </p:sp>
      <p:pic>
        <p:nvPicPr>
          <p:cNvPr id="99" name="Picture 4" descr="C:\Documents and Settings\jbartolo\Local Settings\Temporary Internet Files\Content.IE5\MNMR9XWV\MC900388664[1].wmf"/>
          <p:cNvPicPr/>
          <p:nvPr/>
        </p:nvPicPr>
        <p:blipFill>
          <a:blip r:embed="rId2"/>
          <a:stretch/>
        </p:blipFill>
        <p:spPr>
          <a:xfrm>
            <a:off x="6632640" y="762120"/>
            <a:ext cx="1782720" cy="1830240"/>
          </a:xfrm>
          <a:prstGeom prst="rect">
            <a:avLst/>
          </a:prstGeom>
          <a:ln w="0">
            <a:noFill/>
          </a:ln>
        </p:spPr>
      </p:pic>
      <p:pic>
        <p:nvPicPr>
          <p:cNvPr id="100" name="Picture 5" descr="C:\Documents and Settings\jbartolo\Local Settings\Temporary Internet Files\Content.IE5\U85YI6RM\MC900030082[1].wmf"/>
          <p:cNvPicPr/>
          <p:nvPr/>
        </p:nvPicPr>
        <p:blipFill>
          <a:blip r:embed="rId3"/>
          <a:stretch/>
        </p:blipFill>
        <p:spPr>
          <a:xfrm>
            <a:off x="4243320" y="3505320"/>
            <a:ext cx="227484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7200" y="274680"/>
            <a:ext cx="8229600" cy="134136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s an Aircraft Engine Mechanic, WG-10 Potential WG-11, you will modify, troubleshoot and repair specially instrumented, standard experimental, pre-production, production, and or modified aircraft engines used as test articles to include calibration and or repair of sub-assemblies and parts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st know some sort of background in field.</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ull time job</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alary: $22.00 to $27.00</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Title 1" descr=""/>
          <p:cNvPicPr/>
          <p:nvPr/>
        </p:nvPicPr>
        <p:blipFill>
          <a:blip r:embed="rId1"/>
          <a:stretch/>
        </p:blipFill>
        <p:spPr>
          <a:xfrm>
            <a:off x="457200" y="274680"/>
            <a:ext cx="8229600" cy="134136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rmin AT is seeking an Aviation Technical Writer to create reader-friendly aviation user's guides and installation and maintenance manual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quirements</a:t>
            </a:r>
            <a:endParaRPr b="0" lang="en-US" sz="28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llege or equivalent</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lectronics background</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Drafting/Cad experienc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rivate pilot license </a:t>
            </a:r>
            <a:endParaRPr b="0" lang="en-US" sz="20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ull tim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1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ok Antiqua"/>
              </a:rPr>
              <a:t>Thank you, Any questions?</a:t>
            </a: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2:21:19Z</dcterms:created>
  <dc:creator>Steven Pajewski</dc:creator>
  <dc:description/>
  <dc:language>en-US</dc:language>
  <cp:lastModifiedBy>JAMES BARTOLOMEO</cp:lastModifiedBy>
  <dcterms:modified xsi:type="dcterms:W3CDTF">2010-09-16T14:41:14Z</dcterms:modified>
  <cp:revision>8</cp:revision>
  <dc:subject/>
  <dc:title>Tech Talk</dc:title>
</cp:coreProperties>
</file>